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0F65-F016-460E-A112-5747CF3B0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8619-F048-4642-B87F-A56AEA496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APPOINT A T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B. Might not even get to bother with powerpoint this session as it will be quite a rus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A6E2-1564-4B16-8779-B581211A7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tors may wish to address some common issues and suggest some action points for nex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715-4975-4BBC-94A2-0678CBF17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7CD-1160-41D9-8920-32F43879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48E-AC54-4591-8986-EDF8A46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33F-14DC-4FCA-B029-DB097FAB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C2A-4A93-44BB-8DE5-1EDAF283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905-870C-401B-92B2-E479D71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5E8-9EFF-4777-B22C-D17BE595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7ED-866D-422C-A78E-AC5502F1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8C0-C2B2-4FC5-9530-9078F4F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59C-1218-42F4-AD8C-D68026F1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993-B07A-4A7B-95C7-A4B019F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AC8-B45A-44F1-9BF8-74CBBEA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B09-E0EF-47BB-A53B-76E94BEF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6096-684D-4FC3-BC19-577DA7D07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L COMMUNICATION SKILLS for Maths &amp;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2 – Formativ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your team extract information from an article and present the key facts to the rest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fferent article for each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1 minute per person presentation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tor feedback for each presenter based on assessment criteria – you will receive as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oup to group feedback – grade &amp; few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 feedback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ess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esenting with Confidenc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come ner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 your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what you’re saying and make sure the audience does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42:02Z</dcterms:created>
  <dc:creator>Pete_Eileen</dc:creator>
  <dc:description/>
  <dc:language>en-US</dc:language>
  <cp:lastModifiedBy>korzenio</cp:lastModifiedBy>
  <dcterms:modified xsi:type="dcterms:W3CDTF">2011-12-22T14:35:46Z</dcterms:modified>
  <cp:revision>70</cp:revision>
  <dc:subject/>
  <dc:title>ORAL COMMUNICATION SKILLS  for Maths &amp; Statistics Session 1 – 3rd June 2011</dc:title>
</cp:coreProperties>
</file>