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D02B-975B-4B21-9FFA-42E289355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the audience </a:t>
            </a:r>
            <a:r>
              <a:rPr b="1" lang="en-US" sz="1200" spc="-1" strike="noStrike">
                <a:solidFill>
                  <a:srgbClr val="000000"/>
                </a:solidFill>
                <a:latin typeface="Calibri"/>
              </a:rPr>
              <a:t>what’s in it for them </a:t>
            </a:r>
            <a:r>
              <a:rPr b="0" lang="en-US" sz="1200" spc="-1" strike="noStrike">
                <a:solidFill>
                  <a:srgbClr val="000000"/>
                </a:solidFill>
                <a:latin typeface="Calibri"/>
              </a:rPr>
              <a:t>at the beginning – give them a reason to pay att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and emphasise key points – e.g.. by using tone of voice, volume, hand gestures but be careful not to change the meaning of what you s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key information at the beginning and end – like the news HEADLINES – MAIN CONTENT – RECAP OF HEAD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mall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 questions – perhaps rhetor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it memorable – give – or ask for examples so they can relate what you are saying to their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MEMORY TASK NOW – list on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ll students that they will be shown a list for 45 seconds. After this the list will be removed and they will list as many of the words as they can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1BAC-2A72-4F63-B29D-BF1435AEE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this up for 45 seconds. Don’t read it out too as this will distract them</a:t>
            </a:r>
            <a:endParaRPr b="0" lang="en-US" sz="1200" spc="-1" strike="noStrike">
              <a:solidFill>
                <a:srgbClr val="000000"/>
              </a:solidFill>
              <a:latin typeface="Calibri"/>
            </a:endParaRPr>
          </a:p>
        </p:txBody>
      </p:sp>
      <p:sp>
        <p:nvSpPr>
          <p:cNvPr id="1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926C-AD3C-4471-A88E-7A384ECE4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600" cy="3722760"/>
          </a:xfrm>
          <a:prstGeom prst="rect">
            <a:avLst/>
          </a:prstGeom>
          <a:ln w="0">
            <a:noFill/>
          </a:ln>
        </p:spPr>
      </p:sp>
      <p:sp>
        <p:nvSpPr>
          <p:cNvPr id="1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me memory techniqu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shows that, given verbal information, people tend to remember what is said FIRST and what is said LA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ill also remember words which are unusual or which may have links to emotions (positive or negative) which is why making people laugh (or afraid!) can help them to lear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ing key messages (at the end in the summa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only retain a small number of items of information short term. If we can ‘chunk’ some items together we can remember mor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ssociate a visual image with a word then you may remember it better. If you can find some way (perhaps a surreal image) of linking the words in order this is incredibly effective. Some people remember these associations years later. Example – When a colleague’s daughter was revising for her Physics exam many years ago they came up with  ‘CHARGE OVER TIME EQUALS CURRENT – picture of a bull standing on a large watch face on the left hand side of an old fashioned weighing scales and on the other side of the scales is a currant/sultana. Ask them to think of a simple mathematical equation or formula and how they could link visual images to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of using visual images is to imagine going on a journey on a route you are very familiar with. Along the way imagine seeing the visual images attached to landma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s can help ASK THEM TO RELATE THE COLOURS OF THE RAINBOW IN ORDER e.g.. Richard Of York Gave Battle In Vain (Red Orange Yellow, Green Blue, Indigo Viol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DO MEMORY LIST part 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5875-CBB3-4E2E-8BD1-7E50C09FC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w this list again for 45 seconds then ask them to write down as many as they can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many did they rec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pefully they should do better in this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have had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ords may be more relevant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an be grouped (begin with T or S; Greek letters, geometric term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tters of each word spell ‘Maths S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may be able to associate visual images with some of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words may be particularly interesting to them e.g.. if they enjoy statistics more than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A4DC-D530-47DA-B5DC-A6C3A0D07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body seen ‘The Kings Speech?’ – King George VI was a shy prince with a speech impediment, never expecting to be King and terrible/terrified at speaking in public. When his brother, Edward, abdicated he took the throne. With help – and practice - he became an effective public speaker)</a:t>
            </a:r>
            <a:endParaRPr b="0" lang="en-US" sz="1200" spc="-1" strike="noStrike">
              <a:solidFill>
                <a:srgbClr val="000000"/>
              </a:solidFill>
              <a:latin typeface="Calibri"/>
            </a:endParaRPr>
          </a:p>
        </p:txBody>
      </p:sp>
      <p:sp>
        <p:nvSpPr>
          <p:cNvPr id="1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24B0-2A6D-407A-A46F-B793D534B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memorable for the right reasons! </a:t>
            </a:r>
            <a:endParaRPr b="0" lang="en-US" sz="1200" spc="-1" strike="noStrike">
              <a:solidFill>
                <a:srgbClr val="000000"/>
              </a:solidFill>
              <a:latin typeface="Calibri"/>
            </a:endParaRPr>
          </a:p>
        </p:txBody>
      </p:sp>
      <p:sp>
        <p:nvSpPr>
          <p:cNvPr id="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DE4E-0A63-4992-B0EE-F81ECDC24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7640" y="744480"/>
            <a:ext cx="4962600" cy="3722760"/>
          </a:xfrm>
          <a:prstGeom prst="rect">
            <a:avLst/>
          </a:prstGeom>
          <a:ln w="0">
            <a:noFill/>
          </a:ln>
        </p:spPr>
      </p:sp>
      <p:sp>
        <p:nvSpPr>
          <p:cNvPr id="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tart of this session announce that in a moment you are going to pick on one person to do an impromptu 5 minute presentation on any topic. We will observe them and offer critical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them that you are only jo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what their reactions were? (tell them the expressions you noti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feel physical stress symptoms such as sickness, wanting to run away, sweaty palms, dry mouth, mind going blank, speeding up of heart rate, short br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y saying to themselves? (don’t p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some of them were more pragmatic and started to think about a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DABF-A9D9-4F83-A951-348B007FB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7640" y="744480"/>
            <a:ext cx="4962600" cy="3722760"/>
          </a:xfrm>
          <a:prstGeom prst="rect">
            <a:avLst/>
          </a:prstGeom>
          <a:ln w="0">
            <a:noFill/>
          </a:ln>
        </p:spPr>
      </p:sp>
      <p:sp>
        <p:nvSpPr>
          <p:cNvPr id="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is essential to breathe! When you are stressed (or excited) it is easy to forget and talk for too long without taking a brea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 if you tend to do this, write on your notes just after the beginning a note to yourself to BREATHE! And maybe to check your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r presentation you could try breathing exercises to help you stay calm (see handout and try one of the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u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thletes use this techn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makes perfect – even if the practice is in your 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imagine things going right (instead of going wrong) you will feel calmer and more conf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relax and preferably close their eyes whilst you talk through the mental rehearsal (handout)</a:t>
            </a:r>
            <a:endParaRPr b="0" lang="en-US" sz="1200" spc="-1" strike="noStrike">
              <a:solidFill>
                <a:srgbClr val="000000"/>
              </a:solidFill>
              <a:latin typeface="Calibri"/>
            </a:endParaRPr>
          </a:p>
        </p:txBody>
      </p:sp>
      <p:sp>
        <p:nvSpPr>
          <p:cNvPr id="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8C00-F245-4B2C-B73F-7EE372756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explanatory</a:t>
            </a:r>
            <a:endParaRPr b="0" lang="en-US" sz="1200" spc="-1" strike="noStrike">
              <a:solidFill>
                <a:srgbClr val="000000"/>
              </a:solidFill>
              <a:latin typeface="Calibri"/>
            </a:endParaRPr>
          </a:p>
        </p:txBody>
      </p:sp>
      <p:sp>
        <p:nvSpPr>
          <p:cNvPr id="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F508-B04C-4D74-8FDF-07E1EEC10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2600" cy="3722760"/>
          </a:xfrm>
          <a:prstGeom prst="rect">
            <a:avLst/>
          </a:prstGeom>
          <a:ln w="0">
            <a:noFill/>
          </a:ln>
        </p:spPr>
      </p:sp>
      <p:sp>
        <p:nvSpPr>
          <p:cNvPr id="1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ths tutor to c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B. The words WHAT, WHY, HOW &amp; SO WHAT have been added as they refer to McCarthy’s 4MAT process for planning and structuring presentations to cover all ang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 http://www.aboutlearning.com/</a:t>
            </a:r>
            <a:endParaRPr b="0" lang="en-US" sz="1200" spc="-1" strike="noStrike">
              <a:solidFill>
                <a:srgbClr val="000000"/>
              </a:solidFill>
              <a:latin typeface="Calibri"/>
            </a:endParaRPr>
          </a:p>
        </p:txBody>
      </p:sp>
      <p:sp>
        <p:nvSpPr>
          <p:cNvPr id="1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767F-AECF-4FA4-A2CC-45E73D744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ze it – using techniques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ndex cards are a good idea. Keep them together with a tag. Write only key words and diagrams to jog your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notes? – not always a good idea as they can fall and get mixed up; you can tend to speak into them or hide behind them and if you are a bit nervous they will emphasise your hands sh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aids (e.g.. PowerPoint)  – can help to emphasise key points and remind you but can also be an extra source of hassle and dictate your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0037-763D-4288-BD0C-2338C2D3B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is slide. Ask them to read it quickly and count the number of ‘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did they see? Many people see only three. Some may see s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again. Can they see them all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y do we not notice all the Fs straight a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nly pay attention to what we think is the most significant information. Little words like ‘of’ go unnoticed. Also, if we say the words phonetically in our heads as we read, then the ‘f’ in ‘of’ is pronounced as a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 HOW IS THIS REL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ll tend to pay attention to what THEY think is most important. You must make an effort to emphasise what you want them to notice and remember most.</a:t>
            </a:r>
            <a:endParaRPr b="0" lang="en-US" sz="1200" spc="-1" strike="noStrike">
              <a:solidFill>
                <a:srgbClr val="000000"/>
              </a:solidFill>
              <a:latin typeface="Calibri"/>
            </a:endParaRPr>
          </a:p>
        </p:txBody>
      </p:sp>
      <p:sp>
        <p:nvSpPr>
          <p:cNvPr id="1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04BB-DDDA-490D-8140-CCC0C981D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FB807-BB4D-488F-A340-023DAE2A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12FB-B639-4010-A3CA-88133A74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9A2C9-97F1-4ECA-84F3-ACA4C3A15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CD50B-0D55-4896-9D4D-15E451CA9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FC10-4058-40EE-8B07-30A8B2F5A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79B7-F591-41F0-BD5D-4673176A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C803-1E03-478D-BB99-8972815A3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FBBA-5BB1-46DB-A8AA-D7A0C2A0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68A1-BD87-4DC7-93F7-11149871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7C5B-FBA7-4D83-9D29-A08ED59D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8FCB-F0AB-4312-B8AB-8B87EEFF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974A-6579-486E-9BA6-DD96C1569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0647-8325-4F03-B2E8-592B3013F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COMMUNICATION SKILLS for Maths &amp; Statis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3</a:t>
            </a:r>
            <a:endParaRPr b="0" lang="en-US" sz="3200" spc="-1" strike="noStrike">
              <a:solidFill>
                <a:srgbClr val="000000"/>
              </a:solidFill>
              <a:latin typeface="Calibri"/>
            </a:endParaRPr>
          </a:p>
        </p:txBody>
      </p:sp>
      <p:pic>
        <p:nvPicPr>
          <p:cNvPr id="50" name="Picture 5"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tion and memory</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l the audience </a:t>
            </a:r>
            <a:r>
              <a:rPr b="1" lang="en-US" sz="3200" spc="-1" strike="noStrike">
                <a:solidFill>
                  <a:srgbClr val="000000"/>
                </a:solidFill>
                <a:latin typeface="Calibri"/>
              </a:rPr>
              <a:t>what’s in it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and reinforce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e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tasks (time perm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key information at the beginning and 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memorable</a:t>
            </a:r>
            <a:endParaRPr b="0" lang="en-US" sz="3200" spc="-1" strike="noStrike">
              <a:solidFill>
                <a:srgbClr val="000000"/>
              </a:solidFill>
              <a:latin typeface="Calibri"/>
            </a:endParaRPr>
          </a:p>
        </p:txBody>
      </p:sp>
      <p:pic>
        <p:nvPicPr>
          <p:cNvPr id="76"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gg</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lephon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ght</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ok</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lug</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f</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mbrella</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rrot</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rro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ory</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and recency eff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usual and emotive wor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s/chu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ing images in a s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i (locate images on a journey through your house or to un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nemonics (e.g.. Richard of Yor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533160"/>
            <a:ext cx="8229600" cy="55926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ition</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t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ypotenuse</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tte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gm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angle</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ph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orem</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quar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 your state of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T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structure your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memorable (for the right r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effective oral communication skills can be learnt. You don’t have to be a natural born or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Calibri"/>
              </a:rPr>
              <a:t>Presentation skills </a:t>
            </a:r>
            <a:br>
              <a:rPr sz="4800"/>
            </a:br>
            <a:r>
              <a:rPr b="0" lang="en-US" sz="4800" spc="-1" strike="noStrike">
                <a:solidFill>
                  <a:srgbClr val="000000"/>
                </a:solidFill>
                <a:latin typeface="Calibri"/>
              </a:rPr>
              <a:t>part 2 </a:t>
            </a:r>
            <a:br>
              <a:rPr sz="4000"/>
            </a:br>
            <a:endParaRPr b="0" lang="en-US" sz="4800" spc="-1" strike="noStrike">
              <a:solidFill>
                <a:srgbClr val="000000"/>
              </a:solidFill>
              <a:latin typeface="Calibri"/>
            </a:endParaRPr>
          </a:p>
        </p:txBody>
      </p:sp>
      <p:sp>
        <p:nvSpPr>
          <p:cNvPr id="52"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CONTENT, STRUCTURE </a:t>
            </a: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AND MAKING IT MEMORABLE</a:t>
            </a:r>
            <a:endParaRPr b="0" lang="en-US" sz="3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vercome nerv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 your con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what you’re saying and make sure the audience does to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coming ner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ing presentations often provokes a physical stres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bodies prepare for FIGHT or F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accomplished performers experience this and some feel the adrenalin rush helps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manage some of the less helpful symptoms </a:t>
            </a:r>
            <a:endParaRPr b="0" lang="en-US" sz="3200" spc="-1" strike="noStrike">
              <a:solidFill>
                <a:srgbClr val="000000"/>
              </a:solidFill>
              <a:latin typeface="Calibri"/>
            </a:endParaRPr>
          </a:p>
        </p:txBody>
      </p:sp>
      <p:pic>
        <p:nvPicPr>
          <p:cNvPr id="56" name="Picture 4" descr="LU - Logo - Full Colour (CMYK) Logo 1"/>
          <p:cNvPicPr/>
          <p:nvPr/>
        </p:nvPicPr>
        <p:blipFill>
          <a:blip r:embed="rId1"/>
          <a:stretch/>
        </p:blipFill>
        <p:spPr>
          <a:xfrm>
            <a:off x="7199280" y="38088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coming nerv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ea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to re-engage the thinking part of your brai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serves as a distr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ntal rehearsal/visual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dely used by athl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tter than imagining everything going wrong!</a:t>
            </a:r>
            <a:endParaRPr b="0" lang="en-US" sz="3000" spc="-1" strike="noStrike">
              <a:solidFill>
                <a:srgbClr val="000000"/>
              </a:solidFill>
              <a:latin typeface="Calibri"/>
            </a:endParaRPr>
          </a:p>
        </p:txBody>
      </p:sp>
      <p:pic>
        <p:nvPicPr>
          <p:cNvPr id="59"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purpos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esentation is not just a chance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talk about somet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have a </a:t>
            </a:r>
            <a:r>
              <a:rPr b="1" lang="en-US" sz="3200" spc="-1" strike="noStrike">
                <a:solidFill>
                  <a:srgbClr val="000000"/>
                </a:solidFill>
                <a:latin typeface="Calibri"/>
              </a:rPr>
              <a:t>purpose</a:t>
            </a:r>
            <a:r>
              <a:rPr b="0" lang="en-US" sz="3200" spc="-1" strike="noStrike">
                <a:solidFill>
                  <a:srgbClr val="000000"/>
                </a:solidFill>
                <a:latin typeface="Calibri"/>
              </a:rPr>
              <a:t> and be </a:t>
            </a:r>
            <a:r>
              <a:rPr b="1" lang="en-US" sz="3200" spc="-1" strike="noStrike">
                <a:solidFill>
                  <a:srgbClr val="000000"/>
                </a:solidFill>
                <a:latin typeface="Calibri"/>
              </a:rPr>
              <a:t>persuas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want your audience to </a:t>
            </a:r>
            <a:r>
              <a:rPr b="1" lang="en-US" sz="3200" spc="-1" strike="noStrike">
                <a:solidFill>
                  <a:srgbClr val="000000"/>
                </a:solidFill>
                <a:latin typeface="Calibri"/>
              </a:rPr>
              <a:t>do</a:t>
            </a:r>
            <a:r>
              <a:rPr b="0" lang="en-US" sz="3200" spc="-1" strike="noStrike">
                <a:solidFill>
                  <a:srgbClr val="000000"/>
                </a:solidFill>
                <a:latin typeface="Calibri"/>
              </a:rPr>
              <a:t> or </a:t>
            </a:r>
            <a:r>
              <a:rPr b="1" lang="en-US" sz="3200" spc="-1" strike="noStrike">
                <a:solidFill>
                  <a:srgbClr val="000000"/>
                </a:solidFill>
                <a:latin typeface="Calibri"/>
              </a:rPr>
              <a:t>thin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your communication?</a:t>
            </a:r>
            <a:endParaRPr b="0" lang="en-US" sz="3200" spc="-1" strike="noStrike">
              <a:solidFill>
                <a:srgbClr val="000000"/>
              </a:solidFill>
              <a:latin typeface="Calibri"/>
            </a:endParaRPr>
          </a:p>
        </p:txBody>
      </p:sp>
      <p:pic>
        <p:nvPicPr>
          <p:cNvPr id="62"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needs of your audienc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planning consider their current level of understanding of the top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jargon appropriat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them know at the beginning if and when they can ask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 to the side of the screen (if 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hey can read writing and hear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ck to time</a:t>
            </a:r>
            <a:endParaRPr b="0" lang="en-US" sz="3200" spc="-1" strike="noStrike">
              <a:solidFill>
                <a:srgbClr val="000000"/>
              </a:solidFill>
              <a:latin typeface="Calibri"/>
            </a:endParaRPr>
          </a:p>
        </p:txBody>
      </p:sp>
      <p:pic>
        <p:nvPicPr>
          <p:cNvPr id="65"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tructuring your conten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possible form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ckground (such as essential definitions or notation) Rationale </a:t>
            </a:r>
            <a:r>
              <a:rPr b="0" i="1" lang="en-GB" sz="3000" spc="-1" strike="noStrike">
                <a:solidFill>
                  <a:srgbClr val="000000"/>
                </a:solidFill>
                <a:latin typeface="Calibri"/>
              </a:rPr>
              <a:t>(WH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te </a:t>
            </a:r>
            <a:r>
              <a:rPr b="1" lang="en-GB" sz="3000" spc="-1" strike="noStrike">
                <a:solidFill>
                  <a:srgbClr val="000000"/>
                </a:solidFill>
                <a:latin typeface="Calibri"/>
              </a:rPr>
              <a:t>what</a:t>
            </a:r>
            <a:r>
              <a:rPr b="0" lang="en-GB" sz="3000" spc="-1" strike="noStrike">
                <a:solidFill>
                  <a:srgbClr val="000000"/>
                </a:solidFill>
                <a:latin typeface="Calibri"/>
              </a:rPr>
              <a:t> you are trying to do (e.g. give a statement of the theorem) </a:t>
            </a:r>
            <a:r>
              <a:rPr b="0" i="1" lang="en-GB" sz="3000" spc="-1" strike="noStrike">
                <a:solidFill>
                  <a:srgbClr val="000000"/>
                </a:solidFill>
                <a:latin typeface="Calibri"/>
              </a:rPr>
              <a:t>(WH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every </a:t>
            </a:r>
            <a:r>
              <a:rPr b="1" lang="en-GB" sz="3000" spc="-1" strike="noStrike">
                <a:solidFill>
                  <a:srgbClr val="000000"/>
                </a:solidFill>
                <a:latin typeface="Calibri"/>
              </a:rPr>
              <a:t>step</a:t>
            </a:r>
            <a:r>
              <a:rPr b="0" lang="en-GB" sz="3000" spc="-1" strike="noStrike">
                <a:solidFill>
                  <a:srgbClr val="000000"/>
                </a:solidFill>
                <a:latin typeface="Calibri"/>
              </a:rPr>
              <a:t> in the proof </a:t>
            </a:r>
            <a:r>
              <a:rPr b="0" i="1" lang="en-GB" sz="3000" spc="-1" strike="noStrike">
                <a:solidFill>
                  <a:srgbClr val="000000"/>
                </a:solidFill>
                <a:latin typeface="Calibri"/>
              </a:rPr>
              <a:t>(H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ke a </a:t>
            </a:r>
            <a:r>
              <a:rPr b="1" lang="en-GB" sz="3000" spc="-1" strike="noStrike">
                <a:solidFill>
                  <a:srgbClr val="000000"/>
                </a:solidFill>
                <a:latin typeface="Calibri"/>
              </a:rPr>
              <a:t>conclus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llustrate the merit of the result by some application or illustration </a:t>
            </a:r>
            <a:r>
              <a:rPr b="0" i="1" lang="en-GB" sz="3000" spc="-1" strike="noStrike">
                <a:solidFill>
                  <a:srgbClr val="000000"/>
                </a:solidFill>
                <a:latin typeface="Calibri"/>
              </a:rPr>
              <a:t>(WHAT IF?)</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Managing your content</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orize 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s c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per no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sual aid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ar in mind the </a:t>
            </a:r>
            <a:r>
              <a:rPr b="1" lang="en-US" sz="3000" spc="-1" strike="noStrike">
                <a:solidFill>
                  <a:srgbClr val="000000"/>
                </a:solidFill>
                <a:latin typeface="Calibri"/>
              </a:rPr>
              <a:t>key messages </a:t>
            </a:r>
            <a:r>
              <a:rPr b="0" lang="en-US" sz="3000" spc="-1" strike="noStrike">
                <a:solidFill>
                  <a:srgbClr val="000000"/>
                </a:solidFill>
                <a:latin typeface="Calibri"/>
              </a:rPr>
              <a:t>that you want 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t acros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try to cover too much (most people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28600" y="1600200"/>
            <a:ext cx="86868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FINISHED FILES ARE THE RESULT OF YEARS OF SCIENTIFIC RESEARCH COMBINED WITH THE EXPERIENCE OF MANY YEARS</a:t>
            </a:r>
            <a:endParaRPr b="0" lang="en-US" sz="5400" spc="-1" strike="noStrike">
              <a:solidFill>
                <a:srgbClr val="000000"/>
              </a:solidFill>
              <a:latin typeface="Calibri"/>
            </a:endParaRPr>
          </a:p>
        </p:txBody>
      </p:sp>
      <p:pic>
        <p:nvPicPr>
          <p:cNvPr id="73"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42:02Z</dcterms:created>
  <dc:creator>Pete_Eileen</dc:creator>
  <dc:description/>
  <dc:language>en-US</dc:language>
  <cp:lastModifiedBy>korzenio</cp:lastModifiedBy>
  <dcterms:modified xsi:type="dcterms:W3CDTF">2011-12-22T15:23:39Z</dcterms:modified>
  <cp:revision>76</cp:revision>
  <dc:subject/>
  <dc:title>ORAL COMMUNICATION SKILLS  for Maths &amp; Statistics Session 1 – 3rd June 2011</dc:title>
</cp:coreProperties>
</file>