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BF26-37D8-4F0D-9FF3-8BE1028A3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may not be necessary for this session as the focus will be on presentations – but use this if you want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tors may wish to remind students of some general poi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keep to time, don’t just read off notes, etc,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0661-48D0-4299-AD5E-3F471EBBF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tor may wish to add some general group feedba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AB8-C0E9-4551-85D3-4130C5E60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7B1-E5C2-4A64-954A-11804B80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83A-2302-4BD9-A908-8E14B220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2A1-E8B4-481D-9BCE-6EAD2616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772-00BF-457F-A48D-0EDE0D3B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4D3-8A11-4A2F-A26E-20AC16DA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F9D-B0F1-4167-962C-4C2E2041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544-9F8A-4B6E-B599-FDB01A3A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252-8822-44F7-9A04-25DB2311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344-7842-43CE-8087-372F7250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B4E-98C3-4259-82C6-8FD22389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8F7-8B46-490A-B6AF-6634E4A2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18E-C34C-410D-9CE9-934E266E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56E7-B412-46C4-96B7-CDCE68A22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AL COMMUNICATION SKILLS for Maths &amp;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TIV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reminders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42:02Z</dcterms:created>
  <dc:creator>Pete_Eileen</dc:creator>
  <dc:description/>
  <dc:language>en-US</dc:language>
  <cp:lastModifiedBy>korzenio</cp:lastModifiedBy>
  <dcterms:modified xsi:type="dcterms:W3CDTF">2011-12-22T15:35:25Z</dcterms:modified>
  <cp:revision>64</cp:revision>
  <dc:subject/>
  <dc:title>ORAL COMMUNICATION SKILLS  for Maths &amp; Statistics Session 1 – 3rd June 2011</dc:title>
</cp:coreProperties>
</file>